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E79D-5C2E-4743-8144-3D1BDAC088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E29-42B9-435D-8C10-30DD6830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9C8-689D-45F3-BD82-AA8C769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A0A-DFFF-4F28-8894-B9742ADD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998-4F5C-433F-851C-DA502130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397-B793-4568-9D7B-AEC5F7D1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8B7-7FDA-4C1C-8954-590381B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7F7-509D-48EB-A6CA-85849842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B2E-F45D-4D44-9175-037B142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321-D582-45C6-B05C-45A6A445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E1C-2D7D-4231-B1B0-14F2E3E4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ADF-0FB7-4E4D-AD72-EA3CF77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4B6-BE34-473B-82B7-A86B74A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E531-40BC-44AF-B649-38EECC03D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bc.co.uk/london/whereyoulive/west/hounslow/eating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 in Industry, working with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4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ron and Ste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0"/>
            <a:ext cx="2217240" cy="2491920"/>
            <a:chOff x="0" y="0"/>
            <a:chExt cx="2217240" cy="2491920"/>
          </a:xfrm>
        </p:grpSpPr>
        <p:sp>
          <p:nvSpPr>
            <p:cNvPr id="51" name="Rectangle 4"/>
            <p:cNvSpPr/>
            <p:nvPr/>
          </p:nvSpPr>
          <p:spPr>
            <a:xfrm>
              <a:off x="0" y="0"/>
              <a:ext cx="2217240" cy="249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193680" y="78480"/>
              <a:ext cx="1907280" cy="2370240"/>
              <a:chOff x="193680" y="78480"/>
              <a:chExt cx="1907280" cy="2370240"/>
            </a:xfrm>
          </p:grpSpPr>
          <p:pic>
            <p:nvPicPr>
              <p:cNvPr id="53" name="Picture 6" descr="Blast furnace 2"/>
              <p:cNvPicPr/>
              <p:nvPr/>
            </p:nvPicPr>
            <p:blipFill>
              <a:blip r:embed="rId1"/>
              <a:srcRect l="20777" t="0" r="28570" b="0"/>
              <a:stretch/>
            </p:blipFill>
            <p:spPr>
              <a:xfrm>
                <a:off x="417960" y="78480"/>
                <a:ext cx="145836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7"/>
              <p:cNvSpPr/>
              <p:nvPr/>
            </p:nvSpPr>
            <p:spPr>
              <a:xfrm>
                <a:off x="1801800" y="1648800"/>
                <a:ext cx="29916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1614600" y="751320"/>
                <a:ext cx="29880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465200" y="78480"/>
                <a:ext cx="56088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193680" y="1947960"/>
                <a:ext cx="26136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11"/>
          <p:cNvSpPr/>
          <p:nvPr/>
        </p:nvSpPr>
        <p:spPr>
          <a:xfrm>
            <a:off x="2268360" y="90792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In previous work we considered the role of the blast furnace in extracting iron from its 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n"/>
          <p:cNvPicPr/>
          <p:nvPr/>
        </p:nvPicPr>
        <p:blipFill>
          <a:blip r:embed="rId2"/>
          <a:stretch/>
        </p:blipFill>
        <p:spPr>
          <a:xfrm>
            <a:off x="5648400" y="2276640"/>
            <a:ext cx="34956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3"/>
          <p:cNvGrpSpPr/>
          <p:nvPr/>
        </p:nvGrpSpPr>
        <p:grpSpPr>
          <a:xfrm>
            <a:off x="0" y="2637000"/>
            <a:ext cx="8604360" cy="4060080"/>
            <a:chOff x="0" y="2637000"/>
            <a:chExt cx="8604360" cy="4060080"/>
          </a:xfrm>
        </p:grpSpPr>
        <p:sp>
          <p:nvSpPr>
            <p:cNvPr id="61" name="Text Box 14"/>
            <p:cNvSpPr/>
            <p:nvPr/>
          </p:nvSpPr>
          <p:spPr>
            <a:xfrm>
              <a:off x="0" y="2637000"/>
              <a:ext cx="5724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bbe0e3"/>
                  </a:solidFill>
                  <a:latin typeface="Comic Sans MS"/>
                </a:rPr>
                <a:t>The iron contains roughly 5% carbon and different metals and is very ________.  In order to reduce these impurities and convert the iron into _________ the molten iron is transferred into another furnace where it is mixed with recycled scrap iron and pure ___________.  The oxygen reacts with the metal impurities to form ________ oxides.  Calcium carbonate is also added to remove some of the acidic oxides as _______ when the furnace is tilt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9640" y="6237360"/>
              <a:ext cx="8064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Word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– slag, brittle, steel, oxygen, acid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king steel – th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 Mixing oxygen with silicon impu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2)  Decomposition of limest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3141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3)  Adding these product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826920" y="1341360"/>
            <a:ext cx="7561440" cy="1015920"/>
            <a:chOff x="826920" y="1341360"/>
            <a:chExt cx="7561440" cy="1015920"/>
          </a:xfrm>
        </p:grpSpPr>
        <p:sp>
          <p:nvSpPr>
            <p:cNvPr id="68" name="Text Box 7"/>
            <p:cNvSpPr/>
            <p:nvPr/>
          </p:nvSpPr>
          <p:spPr>
            <a:xfrm>
              <a:off x="826920" y="1341360"/>
              <a:ext cx="756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+ oxygen                Silicon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4211640" y="15573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324000" y="2492280"/>
            <a:ext cx="8569080" cy="459720"/>
            <a:chOff x="324000" y="2492280"/>
            <a:chExt cx="8569080" cy="459720"/>
          </a:xfrm>
        </p:grpSpPr>
        <p:sp>
          <p:nvSpPr>
            <p:cNvPr id="71" name="Text Box 10"/>
            <p:cNvSpPr/>
            <p:nvPr/>
          </p:nvSpPr>
          <p:spPr>
            <a:xfrm>
              <a:off x="324000" y="2492280"/>
              <a:ext cx="85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carbonate                calcium oxide + carbon di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132000" y="270828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11280" y="3718080"/>
            <a:ext cx="8064360" cy="459720"/>
            <a:chOff x="611280" y="3718080"/>
            <a:chExt cx="8064360" cy="459720"/>
          </a:xfrm>
        </p:grpSpPr>
        <p:sp>
          <p:nvSpPr>
            <p:cNvPr id="74" name="Text Box 13"/>
            <p:cNvSpPr/>
            <p:nvPr/>
          </p:nvSpPr>
          <p:spPr>
            <a:xfrm>
              <a:off x="611280" y="37180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oxide + calcium oxide                 calcium silic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4932360" y="3933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0" y="4437000"/>
            <a:ext cx="2916360" cy="2424960"/>
            <a:chOff x="0" y="4437000"/>
            <a:chExt cx="2916360" cy="2424960"/>
          </a:xfrm>
        </p:grpSpPr>
        <p:pic>
          <p:nvPicPr>
            <p:cNvPr id="77" name="Picture 16" descr="Firmer chisel"/>
            <p:cNvPicPr/>
            <p:nvPr/>
          </p:nvPicPr>
          <p:blipFill>
            <a:blip r:embed="rId1"/>
            <a:stretch/>
          </p:blipFill>
          <p:spPr>
            <a:xfrm>
              <a:off x="324000" y="4437000"/>
              <a:ext cx="17269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0" y="5670720"/>
              <a:ext cx="29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Comic Sans MS"/>
                </a:rPr>
                <a:t>Steel with a high carbon content is strong but br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3132000" y="4437000"/>
            <a:ext cx="2880000" cy="2424960"/>
            <a:chOff x="3132000" y="4437000"/>
            <a:chExt cx="2880000" cy="2424960"/>
          </a:xfrm>
        </p:grpSpPr>
        <p:pic>
          <p:nvPicPr>
            <p:cNvPr id="80" name="Picture 19" descr="Picture of vehicle"/>
            <p:cNvPicPr/>
            <p:nvPr/>
          </p:nvPicPr>
          <p:blipFill>
            <a:blip r:embed="rId2"/>
            <a:stretch/>
          </p:blipFill>
          <p:spPr>
            <a:xfrm>
              <a:off x="3708360" y="4437000"/>
              <a:ext cx="15130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0"/>
            <p:cNvSpPr/>
            <p:nvPr/>
          </p:nvSpPr>
          <p:spPr>
            <a:xfrm>
              <a:off x="3132000" y="5670720"/>
              <a:ext cx="288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Comic Sans MS"/>
                </a:rPr>
                <a:t>Steel with a low carbon content is easily sha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6012000" y="4437000"/>
            <a:ext cx="3132000" cy="2781000"/>
            <a:chOff x="6012000" y="4437000"/>
            <a:chExt cx="3132000" cy="2781000"/>
          </a:xfrm>
        </p:grpSpPr>
        <p:pic>
          <p:nvPicPr>
            <p:cNvPr id="83" name="Picture 22" descr="Eating Out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77080" y="4437000"/>
              <a:ext cx="18716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3"/>
            <p:cNvSpPr/>
            <p:nvPr/>
          </p:nvSpPr>
          <p:spPr>
            <a:xfrm>
              <a:off x="6012000" y="5661000"/>
              <a:ext cx="313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Steel with chromium and nickel is called stainless st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itanium is a strong metal used in planes, replacement hip joints, bikes etc.  Two steps are used in its manufa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1: Convert titanium dioxide (ore) to titanium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2:  Displace the titanium using sodium or magnes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3357720"/>
            <a:ext cx="9144000" cy="825480"/>
            <a:chOff x="0" y="3357720"/>
            <a:chExt cx="9144000" cy="825480"/>
          </a:xfrm>
        </p:grpSpPr>
        <p:sp>
          <p:nvSpPr>
            <p:cNvPr id="90" name="Text Box 7"/>
            <p:cNvSpPr/>
            <p:nvPr/>
          </p:nvSpPr>
          <p:spPr>
            <a:xfrm>
              <a:off x="0" y="33577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chloride + sodium               titanium + sodium chlo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4067280" y="357372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468360" y="4005360"/>
            <a:ext cx="4103640" cy="2721960"/>
            <a:chOff x="468360" y="4005360"/>
            <a:chExt cx="4103640" cy="2721960"/>
          </a:xfrm>
        </p:grpSpPr>
        <p:sp>
          <p:nvSpPr>
            <p:cNvPr id="93" name="Text Box 10"/>
            <p:cNvSpPr/>
            <p:nvPr/>
          </p:nvSpPr>
          <p:spPr>
            <a:xfrm>
              <a:off x="468360" y="4438800"/>
              <a:ext cx="4103640" cy="228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In this reaction the titanium is displaced my a more reactive metal.  This reaction is done in an argon atmosphere to avoid any further re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692360" y="4005360"/>
              <a:ext cx="1079280" cy="504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4932360" y="4005360"/>
            <a:ext cx="4067280" cy="2498760"/>
            <a:chOff x="4932360" y="4005360"/>
            <a:chExt cx="4067280" cy="2498760"/>
          </a:xfrm>
        </p:grpSpPr>
        <p:sp>
          <p:nvSpPr>
            <p:cNvPr id="96" name="Text Box 13"/>
            <p:cNvSpPr/>
            <p:nvPr/>
          </p:nvSpPr>
          <p:spPr>
            <a:xfrm>
              <a:off x="4932360" y="4581360"/>
              <a:ext cx="4067280" cy="1922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ions have a charge of 4+ and gain four electrons to become titanium atoms.  This is a reduction rea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5435640" y="4005360"/>
              <a:ext cx="1008000" cy="576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765000"/>
            <a:ext cx="70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greenhouse"/>
          <p:cNvPicPr/>
          <p:nvPr/>
        </p:nvPicPr>
        <p:blipFill>
          <a:blip r:embed="rId1"/>
          <a:stretch/>
        </p:blipFill>
        <p:spPr>
          <a:xfrm>
            <a:off x="7093080" y="765000"/>
            <a:ext cx="2050920" cy="153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99"/>
                </a:solidFill>
                <a:latin typeface="Comic Sans MS"/>
              </a:rPr>
              <a:t>A thicker layer of aluminium oxide can be made artificially.  There are two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500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1)  Remove the natural layer by placing the aluminium in sod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47973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2)  Use electrolysis on sulphuric acid with the aluminium as the positive electrode.  This is called anod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500720" y="3213000"/>
            <a:ext cx="4643280" cy="3645000"/>
            <a:chOff x="4500720" y="3213000"/>
            <a:chExt cx="4643280" cy="3645000"/>
          </a:xfrm>
        </p:grpSpPr>
        <p:sp>
          <p:nvSpPr>
            <p:cNvPr id="105" name="Rectangle 9"/>
            <p:cNvSpPr/>
            <p:nvPr/>
          </p:nvSpPr>
          <p:spPr>
            <a:xfrm>
              <a:off x="4500720" y="3213000"/>
              <a:ext cx="4643280" cy="36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BEAK_LF"/>
            <p:cNvPicPr/>
            <p:nvPr/>
          </p:nvPicPr>
          <p:blipFill>
            <a:blip r:embed="rId2"/>
            <a:stretch/>
          </p:blipFill>
          <p:spPr>
            <a:xfrm>
              <a:off x="5508720" y="3500280"/>
              <a:ext cx="257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1"/>
            <p:cNvSpPr/>
            <p:nvPr/>
          </p:nvSpPr>
          <p:spPr>
            <a:xfrm>
              <a:off x="6012000" y="4221000"/>
              <a:ext cx="288720" cy="172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451640" y="4221000"/>
              <a:ext cx="289080" cy="1729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6156360" y="34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6156360" y="342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02000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596360" y="3429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804000" y="328464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948360" y="3357720"/>
              <a:ext cx="7164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012000" y="429264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7451640" y="4292640"/>
              <a:ext cx="28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012000" y="60930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47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5148360" y="5229360"/>
              <a:ext cx="79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opl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84320" y="884160"/>
            <a:ext cx="5068800" cy="5735880"/>
            <a:chOff x="1984320" y="884160"/>
            <a:chExt cx="5068800" cy="5735880"/>
          </a:xfrm>
        </p:grpSpPr>
        <p:pic>
          <p:nvPicPr>
            <p:cNvPr id="123" name="Picture 5" descr="BEAK_LF"/>
            <p:cNvPicPr/>
            <p:nvPr/>
          </p:nvPicPr>
          <p:blipFill>
            <a:blip r:embed="rId1"/>
            <a:stretch/>
          </p:blipFill>
          <p:spPr>
            <a:xfrm>
              <a:off x="1984320" y="1246320"/>
              <a:ext cx="506880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2976480" y="2449440"/>
              <a:ext cx="568440" cy="289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5796000" y="2492280"/>
              <a:ext cx="568440" cy="28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3260880" y="112500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3260880" y="1125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4960800" y="112536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095880" y="112536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4535640" y="884160"/>
              <a:ext cx="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4821120" y="1006560"/>
              <a:ext cx="139680" cy="239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2976480" y="2570040"/>
              <a:ext cx="568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5811840" y="2570040"/>
              <a:ext cx="56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6"/>
          <p:cNvSpPr/>
          <p:nvPr/>
        </p:nvSpPr>
        <p:spPr>
          <a:xfrm>
            <a:off x="2976480" y="5578560"/>
            <a:ext cx="3403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ution containing silver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179280" y="2637000"/>
            <a:ext cx="2880000" cy="1439640"/>
            <a:chOff x="179280" y="2637000"/>
            <a:chExt cx="2880000" cy="1439640"/>
          </a:xfrm>
        </p:grpSpPr>
        <p:sp>
          <p:nvSpPr>
            <p:cNvPr id="136" name="Text Box 18"/>
            <p:cNvSpPr/>
            <p:nvPr/>
          </p:nvSpPr>
          <p:spPr>
            <a:xfrm>
              <a:off x="179280" y="263700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ilver electr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1547640" y="3500280"/>
              <a:ext cx="151164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227280" y="2709720"/>
            <a:ext cx="2808720" cy="1366920"/>
            <a:chOff x="6227280" y="2709720"/>
            <a:chExt cx="2808720" cy="1366920"/>
          </a:xfrm>
        </p:grpSpPr>
        <p:sp>
          <p:nvSpPr>
            <p:cNvPr id="139" name="Text Box 21"/>
            <p:cNvSpPr/>
            <p:nvPr/>
          </p:nvSpPr>
          <p:spPr>
            <a:xfrm>
              <a:off x="7164360" y="270972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bject to be p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 flipH="1">
              <a:off x="6227280" y="3573360"/>
              <a:ext cx="151308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2:21:04Z</dcterms:created>
  <dc:creator>CIC1</dc:creator>
  <dc:description/>
  <dc:language>en-US</dc:language>
  <cp:lastModifiedBy>RomaK</cp:lastModifiedBy>
  <dcterms:modified xsi:type="dcterms:W3CDTF">2015-09-02T05:57:37Z</dcterms:modified>
  <cp:revision>6</cp:revision>
  <dc:subject/>
  <dc:title>Metals in Industry, working with metals</dc:title>
</cp:coreProperties>
</file>